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1C47-E9C5-4F8A-ACAD-EC2BF7C3DF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biotic persp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a McGuire, Ph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rida Sea Grant Extension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biotic persp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a McGuire, Ph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rida Sea Grant Extension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jority of commercially-important marine species rely on estuaries/salt marsh at some stage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include blue crab, oysters, hard clams, shrimp, red drum, seatrout, sheepshead, bluefish, m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jority of commercially-important marine species rely on estuaries/salt marsh at some stage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include blue crab, oysters, hard clams, shrimp, red drum, seatrout, sheepshead, bluefish, m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mportance of salt mar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rosion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mportance of salt mar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rosion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term—amount of carbon produced per m² per uni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kg (ash free dry weight)/m²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factors include nutrients,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 marsh plants provide detritus for the estuarine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grazers on blades (&lt; 10% of biom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etrital biomass supports broad food we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term—amount of carbon produced per m² per uni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kg (ash free dry weight)/m²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factors include nutrients,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 marsh plants provide detritus for the estuarine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grazers on blades (&lt; 10% of biom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etrital biomass supports broad food we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al salt marsh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ri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,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t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y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lph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al salt marsh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ri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,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t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y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lph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rsery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eding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cro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t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essful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pid changes in temperature, salinity, water depth, dissolve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di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rsery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eding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cro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t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essful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pid changes in temperature, salinity, water depth, dissolve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di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salt mars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unity of emerged halophytic vegetation in areas alternately inundated and drained by tidal acti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sive inter- or supratidal areas occupied by rooted emergent vascular macrophytes and a variety of epiphytes and epifauna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ed: sticking out of the water;  Halophytic: salt-loving;  Inundated: flooded; macrophyte: plant that’s large enough to see; epiphyte: plant growing on another organism but not a parasite; epifauna: animal version of epi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salt mars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unity of emerged halophytic vegetation in areas alternately inundated and drained by tidal acti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sive inter- or supratidal areas occupied by rooted emergent vascular macrophytes and a variety of epiphytes and epifauna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ed: sticking out of the water;  Halophytic: salt-loving;  Inundated: flooded; macrophyte: plant that’s large enough to see; epiphyte: plant growing on another organism but not a parasite; epifauna: animal version of epi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salt marshes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intertidal shore of estu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, protected w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from Maine-Florida, along Gulf coast from Florida-Tex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L, most abundant north of the freeze line (70% of state’s salt mars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salt marshes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intertidal shore of estu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, protected w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from Maine-Florida, along Gulf coast from Florida-Tex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L, most abundant north of the freeze line (70% of state’s salt mars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lt marsh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ed halophytic (salt-tolerant)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anent res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lt marsh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ed halophytic (salt-tolerant)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anent res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alternifl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ooth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cus roemeri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ack needle r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dium marisc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wamp saw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pat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eadow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alternifl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ooth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cus roemeri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ack needle r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dium marisc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wamp saw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pat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eadow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sociate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succu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ptions include salt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edible (saltwort, glasswort, sea pursl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 transitional zone between salt marsh and maritime hamm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sociate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succu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ptions include salt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edible (saltwort, glasswort, sea pursl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 transitional zone between salt marsh and maritime hamm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zo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tidal—Spartina, Jun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arsh (above mean high water)—Distichlis spicata, Batis maritima, Salicornia spp., Borrichia sp., Sueda linearis, Limonium carolina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pper edge of high marsh—Iva frutescens, Baccharis halm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-mangrove transition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zo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tidal—Spartina, Jun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arsh (above mean high water)—Distichlis spicata, Batis maritima, Salicornia spp., Borrichia sp., Sueda linearis, Limonium carolina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pper edge of high marsh—Iva frutescens, Baccharis halm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-mangrove transition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ident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torina irro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periwinkle (sna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ddler crabs (Uc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crabs (Sesarm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ukensia demi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bbed mu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ident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torina irro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periwinkle (sna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ddler crabs (Uc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crabs (Sesarm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ukensia demi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bbed mu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idal Marsh 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ondback terrap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idal Marsh 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ondback terrap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3289-1128-461A-8B93-2D2C36A9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5C37-70B9-4E61-A3BA-4C9C7B88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AA5-8A03-4BA2-882E-520CB0AB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D42C-9F09-4D91-A35E-61A80A16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D213-FAE2-41D5-816A-1F32E0D1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7C21-38A5-43EC-BDEF-0CECBA19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A479-BA47-4C0F-8547-E6510AE9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03CA-9535-4679-951A-BE280A43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489F-6F3B-40CE-AA4D-23527BBF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3057-5F61-4186-ABB8-BBE62F07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AF3A-E10E-4174-BC0D-1175DD8B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8BED-F2B7-4237-A58C-178A8892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AA7B-DDA5-47F0-A2C6-5C5111445869}" type="slidenum">
              <a:rPr b="0" lang="en-US" sz="1400" spc="-1" strike="noStrike">
                <a:solidFill>
                  <a:srgbClr val="ffffc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salt marsh"/>
          <p:cNvPicPr/>
          <p:nvPr/>
        </p:nvPicPr>
        <p:blipFill>
          <a:blip r:embed="rId1"/>
          <a:srcRect l="0" t="0" r="11539" b="11794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Salt Marshes</a:t>
            </a:r>
            <a:br>
              <a:rPr sz="48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-biotic perspectiv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ia McGuire, PhD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lorida Sea Grant Extension Agen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" name="Picture 4" descr="EXTBlue654OlineOnWhite"/>
          <p:cNvPicPr/>
          <p:nvPr/>
        </p:nvPicPr>
        <p:blipFill>
          <a:blip r:embed="rId2"/>
          <a:stretch/>
        </p:blipFill>
        <p:spPr>
          <a:xfrm>
            <a:off x="2971800" y="5181480"/>
            <a:ext cx="182880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Florida Sea Grant-blue"/>
          <p:cNvPicPr/>
          <p:nvPr/>
        </p:nvPicPr>
        <p:blipFill>
          <a:blip r:embed="rId3"/>
          <a:stretch/>
        </p:blipFill>
        <p:spPr>
          <a:xfrm>
            <a:off x="4952880" y="5181480"/>
            <a:ext cx="129564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majority of commercially-important marine species rely on estuaries/salt marsh at some stage of lif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Examples include blue crab, oysters, hard clams, shrimp, red drum, seatrout, sheepshead, bluefish, mulle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ortance of salt marsh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abit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rosion contro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ltratio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ductiv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iological term—amount of carbon produced per m² per unit tim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3 kg (ash free dry weight)/m²/year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imiting factors include nutrients, ligh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alt marsh plants provide detritus for the estuarine food web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ew grazers on blades (&lt; 10% of biomass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arge detrital biomass supports broad food web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rtial salt marsh food web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609480" y="44197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sh g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438280" y="4800600"/>
            <a:ext cx="106704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581280" y="5257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ri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447920" y="501984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a, fun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7621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410080" y="4267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657600" y="4114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2"/>
          <p:cNvSpPr/>
          <p:nvPr/>
        </p:nvSpPr>
        <p:spPr>
          <a:xfrm flipV="1">
            <a:off x="1447920" y="38001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4191120" y="2438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1981080" y="2362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5"/>
          <p:cNvSpPr/>
          <p:nvPr/>
        </p:nvSpPr>
        <p:spPr>
          <a:xfrm flipV="1">
            <a:off x="1447920" y="28195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6"/>
          <p:cNvSpPr/>
          <p:nvPr/>
        </p:nvSpPr>
        <p:spPr>
          <a:xfrm flipV="1">
            <a:off x="1676520" y="2819520"/>
            <a:ext cx="24382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7"/>
          <p:cNvSpPr/>
          <p:nvPr/>
        </p:nvSpPr>
        <p:spPr>
          <a:xfrm flipV="1">
            <a:off x="4114800" y="4605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8"/>
          <p:cNvSpPr/>
          <p:nvPr/>
        </p:nvSpPr>
        <p:spPr>
          <a:xfrm flipV="1">
            <a:off x="4343400" y="4724280"/>
            <a:ext cx="10666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9"/>
          <p:cNvSpPr/>
          <p:nvPr/>
        </p:nvSpPr>
        <p:spPr>
          <a:xfrm flipH="1" flipV="1">
            <a:off x="2514600" y="2819520"/>
            <a:ext cx="1371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0"/>
          <p:cNvSpPr/>
          <p:nvPr/>
        </p:nvSpPr>
        <p:spPr>
          <a:xfrm flipV="1">
            <a:off x="4191120" y="2895120"/>
            <a:ext cx="2286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1"/>
          <p:cNvSpPr/>
          <p:nvPr/>
        </p:nvSpPr>
        <p:spPr>
          <a:xfrm flipH="1" flipV="1">
            <a:off x="2666880" y="2742840"/>
            <a:ext cx="289584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6172200" y="56386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ytoplank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6934320" y="44197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ooplank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5867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y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7543800" y="3352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26"/>
          <p:cNvSpPr/>
          <p:nvPr/>
        </p:nvSpPr>
        <p:spPr>
          <a:xfrm flipV="1">
            <a:off x="7238880" y="487656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27"/>
          <p:cNvSpPr/>
          <p:nvPr/>
        </p:nvSpPr>
        <p:spPr>
          <a:xfrm flipH="1" flipV="1">
            <a:off x="6705360" y="3657600"/>
            <a:ext cx="6094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8"/>
          <p:cNvSpPr/>
          <p:nvPr/>
        </p:nvSpPr>
        <p:spPr>
          <a:xfrm flipV="1">
            <a:off x="7543800" y="3809520"/>
            <a:ext cx="3049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29"/>
          <p:cNvSpPr/>
          <p:nvPr/>
        </p:nvSpPr>
        <p:spPr>
          <a:xfrm flipH="1" flipV="1">
            <a:off x="5028840" y="27432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0"/>
          <p:cNvSpPr/>
          <p:nvPr/>
        </p:nvSpPr>
        <p:spPr>
          <a:xfrm>
            <a:off x="6248520" y="1905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31"/>
          <p:cNvSpPr/>
          <p:nvPr/>
        </p:nvSpPr>
        <p:spPr>
          <a:xfrm flipV="1">
            <a:off x="6400800" y="2362320"/>
            <a:ext cx="1522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2"/>
          <p:cNvSpPr/>
          <p:nvPr/>
        </p:nvSpPr>
        <p:spPr>
          <a:xfrm flipV="1">
            <a:off x="4419720" y="2362320"/>
            <a:ext cx="190476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3"/>
          <p:cNvSpPr/>
          <p:nvPr/>
        </p:nvSpPr>
        <p:spPr>
          <a:xfrm flipV="1">
            <a:off x="2590920" y="2133720"/>
            <a:ext cx="358128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4"/>
          <p:cNvSpPr/>
          <p:nvPr/>
        </p:nvSpPr>
        <p:spPr>
          <a:xfrm flipH="1" flipV="1">
            <a:off x="1676520" y="3809880"/>
            <a:ext cx="22096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5"/>
          <p:cNvSpPr/>
          <p:nvPr/>
        </p:nvSpPr>
        <p:spPr>
          <a:xfrm>
            <a:off x="2081160" y="36576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ri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6"/>
          <p:cNvSpPr/>
          <p:nvPr/>
        </p:nvSpPr>
        <p:spPr>
          <a:xfrm flipH="1" flipV="1">
            <a:off x="3047760" y="4190760"/>
            <a:ext cx="99036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7"/>
          <p:cNvSpPr/>
          <p:nvPr/>
        </p:nvSpPr>
        <p:spPr>
          <a:xfrm flipH="1" flipV="1">
            <a:off x="2285640" y="2895120"/>
            <a:ext cx="1522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38"/>
          <p:cNvSpPr/>
          <p:nvPr/>
        </p:nvSpPr>
        <p:spPr>
          <a:xfrm flipV="1">
            <a:off x="2971800" y="2895120"/>
            <a:ext cx="12952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9"/>
          <p:cNvSpPr/>
          <p:nvPr/>
        </p:nvSpPr>
        <p:spPr>
          <a:xfrm flipV="1">
            <a:off x="3276720" y="2285640"/>
            <a:ext cx="297180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41"/>
          <p:cNvSpPr/>
          <p:nvPr/>
        </p:nvSpPr>
        <p:spPr>
          <a:xfrm flipH="1">
            <a:off x="4572000" y="3581280"/>
            <a:ext cx="13716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2"/>
          <p:cNvSpPr/>
          <p:nvPr/>
        </p:nvSpPr>
        <p:spPr>
          <a:xfrm>
            <a:off x="685800" y="1600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lph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43"/>
          <p:cNvSpPr/>
          <p:nvPr/>
        </p:nvSpPr>
        <p:spPr>
          <a:xfrm flipH="1" flipV="1">
            <a:off x="1600200" y="205740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44"/>
          <p:cNvSpPr/>
          <p:nvPr/>
        </p:nvSpPr>
        <p:spPr>
          <a:xfrm flipH="1" flipV="1">
            <a:off x="4648320" y="4419360"/>
            <a:ext cx="76176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5"/>
          <p:cNvSpPr/>
          <p:nvPr/>
        </p:nvSpPr>
        <p:spPr>
          <a:xfrm>
            <a:off x="2590920" y="26668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6"/>
          <p:cNvSpPr/>
          <p:nvPr/>
        </p:nvSpPr>
        <p:spPr>
          <a:xfrm flipH="1" flipV="1">
            <a:off x="2437920" y="2895480"/>
            <a:ext cx="160020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abit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Nursery ground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eeding ground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icrohabitat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erial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Benthic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quatic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tressful environmen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Rapid changes in temperature, salinity, water depth, dissolved oxygen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edimentation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a salt marsh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 community of emerged halophytic vegetation in areas alternately inundated and drained by tidal action.”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xpansive inter- or supratidal areas occupied by rooted emergent vascular macrophytes and a variety of epiphytes and epifauna.”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09480" y="525780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merg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ticking out of the water;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Halophyt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alt-loving;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Inundat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flooded;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macrophy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plant that’s large enough to see;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piphy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plant growing on another organism but not a parasite;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pifaun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animal version of epiph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ere are salt marshes foun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long intertidal shore of estuari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lat, protected water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xtensive from Maine-Florida, along Gulf coast from Florida-Texa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n FL, most abundant north of the freeze line (70% of state’s salt marsh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salt marsh commun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lant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rsh grasse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ssociated halophytic (salt-tolerant) plant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nimal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Permanent resident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Visitor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spartina patens"/>
          <p:cNvPicPr/>
          <p:nvPr/>
        </p:nvPicPr>
        <p:blipFill>
          <a:blip r:embed="rId2"/>
          <a:srcRect l="14075" t="0" r="0" b="0"/>
          <a:stretch/>
        </p:blipFill>
        <p:spPr>
          <a:xfrm>
            <a:off x="5756400" y="1600200"/>
            <a:ext cx="3387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alt marsh grass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partina alterniflor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mooth cord 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Juncus roemerianu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Black needle rush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Cladium mariscoid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wamp saw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partina paten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alt meadow cord 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ssociated pla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ny are succulen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Exceptions include salt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ny are edible (saltwort, glasswort, sea purslane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rm transitional zone between salt marsh and maritime hammock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5" name="Picture 5" descr="Glasswort-red"/>
          <p:cNvPicPr/>
          <p:nvPr/>
        </p:nvPicPr>
        <p:blipFill>
          <a:blip r:embed="rId1"/>
          <a:stretch/>
        </p:blipFill>
        <p:spPr>
          <a:xfrm>
            <a:off x="6172200" y="2057400"/>
            <a:ext cx="2800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alt marsh zon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ntertidal—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partina, Juncu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igh marsh (above mean high water)—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Distichlis spicata, Batis maritim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alicorni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spp.,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Borrichi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sp.,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ued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linearis, Limonium carolinanum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Upper edge of high marsh—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Iva frutescens, Baccharis halmifoli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rsh-mangrove transition zon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Fiddler crabs"/>
          <p:cNvPicPr/>
          <p:nvPr/>
        </p:nvPicPr>
        <p:blipFill>
          <a:blip r:embed="rId1"/>
          <a:srcRect l="42394" t="13769" r="22826" b="31886"/>
          <a:stretch/>
        </p:blipFill>
        <p:spPr>
          <a:xfrm>
            <a:off x="6095880" y="3124080"/>
            <a:ext cx="2795760" cy="3276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sident anima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Littorina irrorat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rsh periwinkle (snail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rab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iddler crabs (</a:t>
            </a:r>
            <a:r>
              <a:rPr b="0" i="1" lang="en-US" sz="2800" spc="-1" strike="noStrike">
                <a:solidFill>
                  <a:srgbClr val="ffffcc"/>
                </a:solidFill>
                <a:latin typeface="Tahoma"/>
              </a:rPr>
              <a:t>Uca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spp.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rsh crabs (</a:t>
            </a:r>
            <a:r>
              <a:rPr b="0" i="1" lang="en-US" sz="2800" spc="-1" strike="noStrike">
                <a:solidFill>
                  <a:srgbClr val="ffffcc"/>
                </a:solidFill>
                <a:latin typeface="Tahoma"/>
              </a:rPr>
              <a:t>Sesarma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spp.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Geukensia demiss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ibbed muss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71" name="Picture 4" descr="Marsh periwinkle"/>
          <p:cNvPicPr/>
          <p:nvPr/>
        </p:nvPicPr>
        <p:blipFill>
          <a:blip r:embed="rId2"/>
          <a:srcRect l="10100" t="31253" r="6293" b="17504"/>
          <a:stretch/>
        </p:blipFill>
        <p:spPr>
          <a:xfrm>
            <a:off x="6400800" y="914400"/>
            <a:ext cx="2438280" cy="2271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Ribbed mussel-NOAA"/>
          <p:cNvPicPr/>
          <p:nvPr/>
        </p:nvPicPr>
        <p:blipFill>
          <a:blip r:embed="rId3"/>
          <a:stretch/>
        </p:blipFill>
        <p:spPr>
          <a:xfrm>
            <a:off x="4267080" y="5257800"/>
            <a:ext cx="213372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idal Marsh Visito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ird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rab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hrimp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sh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iamondback terrapi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9:09:19Z</dcterms:created>
  <dc:creator>Maia P  McGUire</dc:creator>
  <dc:description/>
  <dc:language>en-US</dc:language>
  <cp:lastModifiedBy>RomaK</cp:lastModifiedBy>
  <dcterms:modified xsi:type="dcterms:W3CDTF">2015-09-04T09:45:03Z</dcterms:modified>
  <cp:revision>11</cp:revision>
  <dc:subject/>
  <dc:title>Salt Marshes -biotic perspectives</dc:title>
</cp:coreProperties>
</file>